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A7E-1F87-4FA3-BCFE-D62D41B8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777-9FA4-442D-8E6C-F6948650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D15-7B04-457D-9944-5F17E5AC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12C-48C3-4989-8282-967B2084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CD8-51A4-4A64-8791-46678808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57C8-DA98-407E-AEFB-B83633B7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086-F92E-4B5C-9D74-A515DA58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BB6-DDCC-4964-A6BA-6D3D0B36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693-984E-48F6-9AC5-08D3D195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CF5-C25B-4376-90EF-9884A9D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ADB-34FC-42A0-8A01-E666620C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7C7-4F06-4C89-BCB8-01D4C038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2E8B-817F-4D82-A85E-995470563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 rot="20738400">
            <a:off x="2634480" y="1557000"/>
            <a:ext cx="6095880" cy="23558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A Telecollaborative Project is an activity where students share information with another person or group using the Inter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1292400" y="-347760"/>
            <a:ext cx="8699400" cy="2725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52280" y="2895480"/>
            <a:ext cx="701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a2c7"/>
                </a:solidFill>
                <a:latin typeface="Calibri"/>
              </a:rPr>
              <a:t>Exampl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a2c7"/>
                </a:solidFill>
                <a:latin typeface="Calibri"/>
              </a:rPr>
              <a:t>include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a2c7"/>
                </a:solidFill>
                <a:latin typeface="Calibri"/>
              </a:rPr>
              <a:t>Writing to an eP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a2c7"/>
                </a:solidFill>
                <a:latin typeface="Calibri"/>
              </a:rPr>
              <a:t>Taking a virtual fieldtri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a2c7"/>
                </a:solidFill>
                <a:latin typeface="Calibri"/>
              </a:rPr>
              <a:t>Videoconferenc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:\Documents and Settings\047ortegan\Local Settings\Temporary Internet Files\Content.IE5\9LKWVVFU\MCj02380700000[1].wmf"/>
          <p:cNvPicPr/>
          <p:nvPr/>
        </p:nvPicPr>
        <p:blipFill>
          <a:blip r:embed="rId2"/>
          <a:stretch/>
        </p:blipFill>
        <p:spPr>
          <a:xfrm>
            <a:off x="6553080" y="4267080"/>
            <a:ext cx="2078280" cy="21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047ortegan\Local Settings\Temporary Internet Files\Content.IE5\9LKWVVFU\MCj03010880000[1].wmf"/>
          <p:cNvPicPr/>
          <p:nvPr/>
        </p:nvPicPr>
        <p:blipFill>
          <a:blip r:embed="rId3"/>
          <a:stretch/>
        </p:blipFill>
        <p:spPr>
          <a:xfrm>
            <a:off x="268200" y="324000"/>
            <a:ext cx="166392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20:53:49Z</dcterms:created>
  <dc:creator>RRISD</dc:creator>
  <dc:description/>
  <dc:language>en-US</dc:language>
  <cp:lastModifiedBy>RRISD</cp:lastModifiedBy>
  <dcterms:modified xsi:type="dcterms:W3CDTF">2009-03-13T21:34:11Z</dcterms:modified>
  <cp:revision>4</cp:revision>
  <dc:subject/>
  <dc:title>Telecollaborative Project</dc:title>
</cp:coreProperties>
</file>